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C06-80A0-40C7-83F7-72FFB3E8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3AFD-A619-4C0E-B243-5DC33816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5481-D30A-4964-BD7F-A638AEDF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0660-9B8E-4979-AC1A-4D22DD9B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967B-9CAF-4CF2-BEF9-BE77192C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013E-6AC0-459B-9ADB-2A7CFA6E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150E-AC0E-489E-8A4A-C79319C22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FAF2-6497-4974-BDA6-53CFE01D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0649-2551-4F9F-B7A3-7E5608ED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37C1-6763-4F57-BF99-B60D96D3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9E6A-8327-4842-8513-3C54D558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0397-BE1D-428E-BC47-C8F5EA0A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AF49-25E5-42BC-9FC3-A8A759B6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D30B-1D48-4E83-889A-E7B042738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684B-635B-4FDF-ACAB-825B16A3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C017-062F-4955-9B29-084EAEA8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CF63-B4F1-4F82-9AA7-CB2032B06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16C7-ADB1-40F1-B65A-DBE221EF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2FA-AE0B-4036-841A-1BC9CBE5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C7F5-774F-4DB0-A749-6C71BF03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7A96-B3F9-4C87-82BD-F289E1A6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663A-41B8-48F7-BFE3-1FBF2651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F5D-ABF2-4408-9501-48A13527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6B0E-1845-4C21-B309-896AE746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8F0D-8E84-4B42-B897-FAD243977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0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-32007"/>
                    <a:pt x="12241" y="-22336"/>
                    <a:pt x="312" y="-22336"/>
                  </a:cubicBezTo>
                  <a:cubicBezTo>
                    <a:pt x="207" y="-22337"/>
                    <a:pt x="103" y="-22337"/>
                    <a:pt x="0" y="-22339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0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-32007"/>
                    <a:pt x="12253" y="-22336"/>
                    <a:pt x="324" y="-22336"/>
                  </a:cubicBezTo>
                  <a:cubicBezTo>
                    <a:pt x="215" y="-22337"/>
                    <a:pt x="107" y="-22337"/>
                    <a:pt x="0" y="-22339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0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-32007"/>
                    <a:pt x="12254" y="-22336"/>
                    <a:pt x="325" y="-22336"/>
                  </a:cubicBezTo>
                  <a:cubicBezTo>
                    <a:pt x="216" y="-22337"/>
                    <a:pt x="108" y="-22337"/>
                    <a:pt x="0" y="-22339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D030-5E45-4F4A-8D4D-B534BCE638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Ch. 4: Financial Forecasting,</a:t>
            </a:r>
            <a:br>
              <a:rPr sz="4000"/>
            </a:b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Planning, and Budgeting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257800" cy="493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1828800"/>
            <a:ext cx="914400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xt 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% of $4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sse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urrent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2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5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Asset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3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ab. and Equ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ount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rued Expense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ote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ong Term Debt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ilitie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ained Earning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. &amp; 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553080" y="0"/>
            <a:ext cx="4572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828800"/>
            <a:ext cx="914400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xt 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% of $4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sse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urrent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2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5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Asset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3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ab. and Equ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ount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rued Expense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ote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ong Term Debt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ilitie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ained Earning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. &amp; 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553080" y="0"/>
            <a:ext cx="4572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1828800"/>
            <a:ext cx="914400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xt 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% of $4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sse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urrent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2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5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Asset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3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ab. and Equ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ount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rued Expense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ote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ong Term Debt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ilitie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ained Earning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. &amp; 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553080" y="0"/>
            <a:ext cx="4572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1828800"/>
            <a:ext cx="914400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xt 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% of $4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sse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urrent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2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5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Asset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3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ab. and Equ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ount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rued Expense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ote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ong Term Debt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ilitie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ained Earning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. &amp; 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0"/>
            <a:ext cx="4572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0" y="1828800"/>
            <a:ext cx="914400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xt 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% of $4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sse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urrent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2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5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Asset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3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ab. and Equ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ount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rued Expense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ote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ong Term Debt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6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ilitie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ained Earning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. &amp; 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6553080" y="0"/>
            <a:ext cx="4572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1828800"/>
            <a:ext cx="914400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xt 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% of $4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sse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urrent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2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5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Asset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3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ab. and Equ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ount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rued Expense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ote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ong Term Debt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6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ilitie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17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ained Earning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. &amp; 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53080" y="0"/>
            <a:ext cx="4572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0" y="1828800"/>
            <a:ext cx="914400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xt 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% of $4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sse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urrent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2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5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Asset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3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ab. and Equ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ount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rued Expense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ote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ong Term Debt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6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ilitie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17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7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ained Earning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. &amp; 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6553080" y="0"/>
            <a:ext cx="4572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redicting Retained Earning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Next year’s projected retained earnings = last year’s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$2 millio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, plu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redicting Retained Earning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Next year’s projected retained earnings = last year’s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$2 millio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, plu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rojected          net incom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cash divide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ale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sale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net in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600200" y="35053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( 1 -                 )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Line 5"/>
          <p:cNvSpPr/>
          <p:nvPr/>
        </p:nvSpPr>
        <p:spPr>
          <a:xfrm>
            <a:off x="2743200" y="3962520"/>
            <a:ext cx="182880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Line 6"/>
          <p:cNvSpPr/>
          <p:nvPr/>
        </p:nvSpPr>
        <p:spPr>
          <a:xfrm>
            <a:off x="6477120" y="3962520"/>
            <a:ext cx="220968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redicting Retained Earning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Next year’s projected retained earnings = last year’s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$2 millio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, plu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rojected          net incom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cash divide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ale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sale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net in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$40 million    x      .05 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(1 - .50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600200" y="35053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( 1 -                 )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2743200" y="3962520"/>
            <a:ext cx="182880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6477120" y="3962520"/>
            <a:ext cx="220968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Financial Forecasting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Project sales revenues and expens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3048120" y="2793960"/>
            <a:ext cx="5414760" cy="406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redicting Retained Earning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Next year’s projected retained earnings = last year’s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$2 millio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, plu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rojected          net incom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cash divide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ale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sale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net inco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$40 million    x      .05 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(1 - .50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= $2 million  +  $1 million   =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$3mill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600200" y="35053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( 1 -                 )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2743200" y="3962520"/>
            <a:ext cx="182880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Line 6"/>
          <p:cNvSpPr/>
          <p:nvPr/>
        </p:nvSpPr>
        <p:spPr>
          <a:xfrm>
            <a:off x="6477120" y="3962520"/>
            <a:ext cx="2209680" cy="0"/>
          </a:xfrm>
          <a:prstGeom prst="line">
            <a:avLst/>
          </a:prstGeom>
          <a:ln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0" y="1828800"/>
            <a:ext cx="914400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xt 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% of $4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sse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urrent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2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5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Asset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3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ab. and Equ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ount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rued Expense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ote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ong Term Debt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6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ilitie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17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7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ained Earning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3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. &amp; 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6553080" y="0"/>
            <a:ext cx="4572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0" y="1828800"/>
            <a:ext cx="914400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xt 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% of $4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sse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urrent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2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5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Asset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3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ab. and Equ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ount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rued Expense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ote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ong Term Debt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6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ilitie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17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7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ained Earning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3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1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. &amp; 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6553080" y="0"/>
            <a:ext cx="4572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1828800"/>
            <a:ext cx="914400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xt 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% of $4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sse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urrent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2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5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Asset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3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ab. and Equ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ount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rued Expense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ote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ong Term Debt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6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ilitie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17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7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ained Earning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3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1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. &amp; 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27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553080" y="0"/>
            <a:ext cx="4572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0" y="1828800"/>
            <a:ext cx="914400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xt 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% of $4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sse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urrent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2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5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Asset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3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ab. and Equ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ount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rued Expense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ote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ong Term Debt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6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ilitie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17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7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ained Earning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3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1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. &amp; 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27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553080" y="0"/>
            <a:ext cx="4572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6568920" y="2438280"/>
            <a:ext cx="2594160" cy="350604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ow mu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iscretion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inancing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ill w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e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0" y="1828800"/>
            <a:ext cx="914400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xt 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% of $4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sse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urrent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2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5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Asset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3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ab. and Equ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ount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rued Expense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ote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ong Term Debt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6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ilitie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17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7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ained Earning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3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1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. &amp; 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27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6553080" y="0"/>
            <a:ext cx="4572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6568920" y="2438280"/>
            <a:ext cx="2594160" cy="350604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ow mu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iscretion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inancing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ill w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e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 flipH="1" flipV="1">
            <a:off x="6400440" y="2133720"/>
            <a:ext cx="1219320" cy="3045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Oval 10"/>
          <p:cNvSpPr/>
          <p:nvPr/>
        </p:nvSpPr>
        <p:spPr>
          <a:xfrm>
            <a:off x="5257800" y="1752480"/>
            <a:ext cx="1295280" cy="685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1828800"/>
            <a:ext cx="914400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xt 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% of $4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sse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urrent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2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5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Asset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3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ab. and Equ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ount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rued Expense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5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ote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ong Term Debt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6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ilitie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17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7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ained Earning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3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1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. &amp; 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27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553080" y="0"/>
            <a:ext cx="4572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6568920" y="2438280"/>
            <a:ext cx="2594160" cy="3506040"/>
          </a:xfrm>
          <a:prstGeom prst="rect">
            <a:avLst/>
          </a:prstGeom>
          <a:solidFill>
            <a:srgbClr val="000066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ow mu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iscretiona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inancing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ill w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e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Line 8"/>
          <p:cNvSpPr/>
          <p:nvPr/>
        </p:nvSpPr>
        <p:spPr>
          <a:xfrm flipH="1" flipV="1">
            <a:off x="6400440" y="2133720"/>
            <a:ext cx="1219320" cy="3045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Line 9"/>
          <p:cNvSpPr/>
          <p:nvPr/>
        </p:nvSpPr>
        <p:spPr>
          <a:xfrm flipH="1">
            <a:off x="6477120" y="6019920"/>
            <a:ext cx="1295280" cy="5331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5257800" y="1752480"/>
            <a:ext cx="1295280" cy="685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5257800" y="6172200"/>
            <a:ext cx="1295280" cy="6858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redicting Discretionary Financing Need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redicting Discretionary Financing Need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iscretionary Financing Needed  =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295280" y="2895480"/>
            <a:ext cx="7467840" cy="160020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redicting Discretionary Financing Need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iscretionary Financing Needed  =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jecte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jecte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jec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total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owners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sset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iabilitie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equ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Financial Forecasting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Project sales revenues and expens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Estimate current assets and fixed assets necessary to support projected sal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1295280" y="2895480"/>
            <a:ext cx="7467840" cy="160020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redicting Discretionary Financing Need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iscretionary Financing Needed  =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jecte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jecte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jec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total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owners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sset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iabilitie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equ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$30 million -     $17 million  -  $10 mill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1295280" y="2895480"/>
            <a:ext cx="7467840" cy="160020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Predicting Discretionary Financing Needs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iscretionary Financing Needed  =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jecte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jecte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ject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otal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total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owners’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sset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iabilitie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equ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$30 million -     $17 million  -  $10 mill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=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$3 millio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in discretionary finan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ustainable Rate of Growth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ustainable Rate of Growth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* = ROE (1 - b)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ustainable Rate of Growth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* = ROE (1 - b)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 =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dividend payout ratio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(dividends / net incom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ustainable Rate of Growth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* = ROE (1 - b)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 =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dividend payout ratio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(dividends / net incom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OE =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return on equit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(net income / common equity)  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92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Sustainable Rate of Growth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* = ROE (1 - b)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wher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 =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dividend payout ratio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(dividends / net incom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OE =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return on equit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(net income / common equity)  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et income         sales                  asse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ales                assets          common equ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440" y="5410080"/>
            <a:ext cx="611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OE =                    x                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6" name="Group 5"/>
          <p:cNvGrpSpPr/>
          <p:nvPr/>
        </p:nvGrpSpPr>
        <p:grpSpPr>
          <a:xfrm>
            <a:off x="1600200" y="5638680"/>
            <a:ext cx="7356600" cy="0"/>
            <a:chOff x="1600200" y="5638680"/>
            <a:chExt cx="7356600" cy="0"/>
          </a:xfrm>
        </p:grpSpPr>
        <p:sp>
          <p:nvSpPr>
            <p:cNvPr id="237" name="Line 6"/>
            <p:cNvSpPr/>
            <p:nvPr/>
          </p:nvSpPr>
          <p:spPr>
            <a:xfrm>
              <a:off x="1600200" y="5638680"/>
              <a:ext cx="17524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" name="Line 7"/>
            <p:cNvSpPr/>
            <p:nvPr/>
          </p:nvSpPr>
          <p:spPr>
            <a:xfrm>
              <a:off x="4267080" y="5638680"/>
              <a:ext cx="99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" name="Line 8"/>
            <p:cNvSpPr/>
            <p:nvPr/>
          </p:nvSpPr>
          <p:spPr>
            <a:xfrm>
              <a:off x="6324480" y="5638680"/>
              <a:ext cx="26323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447840"/>
            <a:ext cx="71629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Budge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udget: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 a forecast of future event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248160" cy="4999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447840"/>
            <a:ext cx="716292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Budge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udgets indicate the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amoun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timing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of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future financing needs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udgets provide a basis for taking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corrective action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if budgeted and actual figures do not match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udgets provide the basis for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performance evaluation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4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4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Financial Forecasting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Project sales revenues and expens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Estimate current assets and fixed assets necessary to support projected sal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rcent of sales foreca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Percent of Sales Method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uppose this year’s sales will total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$32 million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ext year, we forecast sales of      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$40 million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et income should be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5%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of sal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ividends should be </a:t>
            </a: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50%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of earning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1828800"/>
            <a:ext cx="914400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his 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% of $32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sse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urrent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8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6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5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Asset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24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ab. and Equ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ount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4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rued Expense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4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ote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ong Term Debt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6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ilitie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15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7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ained Earning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2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9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. &amp; 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$24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6553080" y="0"/>
            <a:ext cx="4572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1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1828800"/>
            <a:ext cx="914400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xt 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% of $4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sse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urrent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5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Asset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ab. and Equ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ount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rued Expense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ote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ong Term Debt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ilitie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ained Earning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. &amp; 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553080" y="0"/>
            <a:ext cx="4572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1828800"/>
            <a:ext cx="914400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xt 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% of $4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sse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urrent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5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Asset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ab. and Equ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ount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rued Expense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ote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ong Term Debt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ilitie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ained Earning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. &amp; 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6553080" y="0"/>
            <a:ext cx="4572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1828800"/>
            <a:ext cx="914400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Next year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% of $40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sse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urrent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1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2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Fixed Asset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$20m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50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Asset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Liab. and Equ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ount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Accrued Expense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12.5%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otes Payable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Long Term Debt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ilitie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ommon Stock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n/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etained Earnings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otal Liab. &amp; Equity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6553080" y="0"/>
            <a:ext cx="45720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7T21:30:22Z</dcterms:created>
  <dc:creator>Anthony K. Byrd, Associate Professor of Finance</dc:creator>
  <dc:description/>
  <dc:language>en-US</dc:language>
  <cp:lastModifiedBy>keran sohail</cp:lastModifiedBy>
  <dcterms:modified xsi:type="dcterms:W3CDTF">2020-04-02T06:27:19Z</dcterms:modified>
  <cp:revision>16</cp:revision>
  <dc:subject>Ch. 4:  Financial Forecasting, Planning &amp; Budgeting</dc:subject>
  <dc:title>Financial Management</dc:title>
</cp:coreProperties>
</file>